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3B76-7F76-48DA-89F9-42E4C28E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A42-13AF-42BE-8349-92B8114B0D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663-2F22-4393-971D-D81B9A48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F58-B104-41B4-A009-9C7D63F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4BA-73B9-4970-BB0E-DB045E82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D84-C2FC-4035-9F4A-7C4895C7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B8B-9C02-404D-8765-3B394B71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7E8-77CC-4304-B19B-79B7196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7E55-85A9-4BEF-BD31-4757DF8C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73F7-3420-46E3-A1CD-DA7A3A7E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D20C-4D2D-471F-B047-E18ECA7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6545-42FB-4FE9-A097-CB815A40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290-5450-48E3-92E7-DE78E86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568-B883-4E51-8C3C-3FBB3D3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2CC7-85C3-4506-B96D-4BF3DF7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461-1978-4B17-9266-1FC65168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64E-FBAC-4CFD-B4AA-5A8840DE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C074-6827-4DFE-AD67-57ED3C1F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472-BC1F-4C44-B264-2CC0350A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F83-B88F-47A8-A4A7-A3032987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B16-E01C-411F-8070-B4C82D1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95F-2B92-4533-9E11-B14AB7F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4CA-BE34-4FB5-9884-F0FB2EAA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4AC-F37C-490C-A931-AB1CBE7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F98-B947-46D1-8A71-AA96A2A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41A-1862-440E-BB1F-9BB600F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4685-0FF1-47F2-B7EA-39EFA7F20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E79-1D70-4A90-8532-B43890EDD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76160" y="2057400"/>
            <a:ext cx="69339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Las entrevistas etnográficas como herramienta en el aprendizaje de la cultura</a:t>
            </a:r>
            <a:br>
              <a:rPr sz="4400"/>
            </a:b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r. Blair Bateman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gham Young University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Resultados del proyect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estionamiento de estereotipos e ideas falsas sobre las culturas hispan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eo de viajar, estudiar, o vivir en un país hispanohabla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atía por miembros de culturas hispan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mistad con individuos hispan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onocimiento de la validez de diferentes prácticas y perspectivas cultur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iencia de su propia cultu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Ideas para implementar un proyecto de entrevistas al nivel K-12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 estudiantes pueden entrevistar a nativos, bien individualmente o en parej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maestro puede ayudar a los estudiantes 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ntrar alguien que entrevis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r las preguntas de ante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puede hacer entrevistas por Sk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serie de entrevistas con una misma persona es mejor que solo u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7"/>
          <a:stretch/>
        </p:blipFill>
        <p:spPr>
          <a:xfrm>
            <a:off x="6459480" y="5094360"/>
            <a:ext cx="266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1760" y="929880"/>
            <a:ext cx="725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Preguntas sobre temas específicos (en lugar de una pregunta más general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famili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ábleme un poco de su famil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comid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suele Ud. comer por la mañana/la tarde/la noche? ¿Qué factores influyen en la comida que com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el tiempo libre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le gusta hacer en su tiempo libre? ¿Cuándo lo hace? ¿Dónde? ¿Con quién(es)? ¿Por qué le gusta esa activ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la vida contemporánea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cambios ha observado en España durante su vi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9298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Ventajas del uso de entrevistas etnográficas en el aprendizaje sobre una cultur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fesor deja su papel de experto 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 aprenden directamente de alguien de dentro de la cultu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 se comprometen a pasar tiempo conociendo a la perso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estudiantes, por contraste, también aprenden sobre su propia c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participación activa en la interacción                 ayuda a superar las barreras de actitud          neg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Volviendo a los objetivos . . .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Qué son entrevistas etnográf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se hace una entrevista etnográf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uáles son las ventajas de las entrevistas etnográficas en el aprendizaje de cultur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¿Cómo podría Ud. implementar las entrevistas etnográf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Image credi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2: Artmaker. (2011, 4 August). Magic carpet. Open Clip Art. Retrieved from http://openclipart.org/detail/153547/magic-carpet-by-artmak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5: Subhashish Panigrahi. (2013, 6 August). Vishnu Vardhan in conversation with Iolanda Pensa regarding Wikimedia India, GLAM initiatives at WikiSym, Hong Kong. Wikimedia Commons. Creative Commons Attribution-Share Alike 3.0 Unported license. Retrieved from http://commons.wikimedia.org/wiki/File:Vishnu_Vardhan_in_conversation_with_Iolanda_Pensa_regarding_Wikimedia_India,_GLAM_initiatives_at_WikiSym,_Hong_Kong.jp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9: Cesere, Angela J. (2013, 21 February). Conversation with Dean Miranda at the Dow Commons. Flickr. Creative Commons Attribution 2.0 Generic license. Retrieved from https://www.flickr.com/photos/snre/8510480598/in/photostream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. 11: U.S. Department of Education. (2009, April 8). _JMH8340 (1). Creative Commons Attribution 2.0 Generic license. Retrieved from https://www.flickr.com/photos/departmentofed/9607323677/in/photostream/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502200"/>
            <a:ext cx="7409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06632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supone que el estudio del español resultará en actitudes positivas por parte de los estudiantes hacia las culturas hispa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agic-Carpet-Ride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-Another-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yndrome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 investigaciones han comprobado que las actitudes positivas no son un producto automático del estudio de un idio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25146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Comentarios de estudiantes universitarios de 2</a:t>
            </a:r>
            <a:r>
              <a:rPr b="0" lang="en-US" sz="2800" spc="-1" strike="noStrike" baseline="30000">
                <a:solidFill>
                  <a:srgbClr val="cc66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6600"/>
                </a:solidFill>
                <a:latin typeface="Times New Roman"/>
              </a:rPr>
              <a:t> año de Español sobre su clase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weakest aspect [of the course] was having to learn culture. I, personally, would improve the class by teaching more of the language and not as much, if any, culture.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nding a lot more time on the grammar and making sure it is understood would help a lot. It’s great learning the culture, but I came to learn how to speak, listen, and write Spanish!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 feel like the concentration on culture severely detracted from my learning of the language (and I pay to learn language).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929880"/>
            <a:ext cx="784872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Las entrevistas etnográficas como herramienta para promover actitudes positivas hacia las otras cultur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s de esta presen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ar qué son las entrevistas etnográf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ar las ventajas de las entrevistas etnográficas en el aprendizaje de la c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erir ideas para un proyecto de entrevistas etnográficas con su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pararse para realizar entrevistas en Españ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¿Qué es la Etnografía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metodología de investigación que se originó desde el campo de la Antropolo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tivo de la Etnografía: Describir una cultura desde el punto de vista de los integrantes de la cul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 de las herramientas de                         la Etnografía: las entrevistas          etnográf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Picture 1" descr=""/>
          <p:cNvPicPr/>
          <p:nvPr/>
        </p:nvPicPr>
        <p:blipFill>
          <a:blip r:embed="rId4"/>
          <a:stretch/>
        </p:blipFill>
        <p:spPr>
          <a:xfrm>
            <a:off x="6197760" y="4648320"/>
            <a:ext cx="2946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Times New Roman"/>
              </a:rPr>
              <a:t>La entrevista etnográfica: Proces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suele comenzar con una pregunta general (p.ej., “¿Cómo se siente Ud. como argentino que vive en los EE.UU.?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continúa con preguntas de seguimiento basadas en las respuestas anteri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y que motivar a la persona a habl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ar y dar tiempo para las respues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tenerse en el tema hasta que se ag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dir clarificación cuando no se entie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tir o reformular lo que la persona ha dicho para asegurar que se ha comprend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C:\Documents and Settings\localuser\My Documents\Blair\Culture Workshops\Interaction with Natives\Ethnographic interview graphic.tif"/>
          <p:cNvPicPr/>
          <p:nvPr/>
        </p:nvPicPr>
        <p:blipFill>
          <a:blip r:embed="rId1"/>
          <a:stretch/>
        </p:blipFill>
        <p:spPr>
          <a:xfrm>
            <a:off x="2286000" y="685800"/>
            <a:ext cx="487692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1"/>
          <p:cNvSpPr/>
          <p:nvPr/>
        </p:nvSpPr>
        <p:spPr>
          <a:xfrm>
            <a:off x="3733920" y="3048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El proyecto de entrevistas que hicieron mis estudiantes en la Universidad de Minnesota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í a los estudiantes en parej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da pareja tenía que encontrar a un nativo que entrevist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eñé una lección sobre como realizar una entrevista etnográfic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estudiantes hicerion tres entrevistas y entregaron una reflexión escrita después de cada entrevis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s estudiantes resumieron lo que                            aprendieron del proyecto e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a presentación o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 trabajo escri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8"/>
          <a:stretch/>
        </p:blipFill>
        <p:spPr>
          <a:xfrm>
            <a:off x="5981760" y="4753080"/>
            <a:ext cx="31622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9:52:34Z</dcterms:created>
  <dc:creator>Blair Bateman</dc:creator>
  <dc:description/>
  <dc:language>en-US</dc:language>
  <cp:lastModifiedBy>Blair Bateman</cp:lastModifiedBy>
  <dcterms:modified xsi:type="dcterms:W3CDTF">2014-06-26T21:16:35Z</dcterms:modified>
  <cp:revision>43</cp:revision>
  <dc:subject/>
  <dc:title>Ethnographic Interviews in the Foreign Languag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